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himes.wav" ContentType="audio/x-wav"/>
  <Override PartName="/ppt/media/laser.wav" ContentType="audio/x-wav"/>
  <Override PartName="/ppt/media/image4.jpeg" ContentType="image/jpeg"/>
  <Override PartName="/ppt/media/image2.jpeg" ContentType="image/jpeg"/>
  <Override PartName="/ppt/media/image3.jpeg" ContentType="image/jpeg"/>
  <Override PartName="/ppt/media/image5.gif" ContentType="image/gif"/>
  <Override PartName="/ppt/media/image6.png" ContentType="image/png"/>
  <Override PartName="/ppt/media/explode.wav" ContentType="audio/x-wav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8D914-6A73-407B-B23B-306D868B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AA9E1-C26D-4B70-B66D-E5C3FFD9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D7E27-5F2E-454C-A2B4-0581341FF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3C3A1-716B-4A66-8046-B2EF88995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38BE-D3D3-476D-88FE-AF1246E18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B334-50A4-444F-B5A3-C21DCC0C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6F9B-4A07-4441-84EE-B7413B8A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38EF-F41A-49CA-9B31-AE8A6C08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450A-B824-4D1B-87CD-AB415A70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3F7A-BBD2-440F-8B9D-6DDC189A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09E0-2471-42A0-AEC4-FBD75279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444F3-A1C1-4942-A553-93DE11DF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3854-D46D-4651-9822-E3DB77C9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B78D-494D-4936-BA51-2ECD17CE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D77D-5760-440C-87E4-A15D7086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54D9-03B4-4837-8FF9-C653BB538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8438-7C31-4AE4-9EEB-75C57F009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B9F21-04C3-4F71-876B-02E7473D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9A4F0-4E56-4438-9B91-67B7F66D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52082-A917-4484-BBA4-22672D84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FDDD1-AEE4-4FE9-8ADF-F1C19600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53341-0066-4365-BBEE-6F05C680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0A514-DCB1-446E-95AF-BD977447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C772F-E170-4F6B-96DA-0176A615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9FE4-33A3-4130-B4E3-14570977A15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CE0D-6336-47E8-BAEA-03BA5BC550B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4"/>
          <p:cNvSpPr/>
          <p:nvPr/>
        </p:nvSpPr>
        <p:spPr>
          <a:xfrm>
            <a:off x="304920" y="0"/>
            <a:ext cx="8229600" cy="696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Tahoma"/>
              </a:rPr>
              <a:t>CERAE</a:t>
            </a:r>
            <a:endParaRPr b="0" lang="en-US" sz="13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ontex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Experienc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Reflec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c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Evaluat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380880" y="533520"/>
            <a:ext cx="487692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mory skil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arnt by hear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ssociative memorization has to be carefully cultivated and learned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1"/>
          <a:stretch/>
        </p:blipFill>
        <p:spPr>
          <a:xfrm>
            <a:off x="5562720" y="533520"/>
            <a:ext cx="3066840" cy="29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380880" y="533520"/>
            <a:ext cx="449604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inking skil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hould encompass both practical problem-solving and abstract thought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4952880" y="533520"/>
            <a:ext cx="4191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4"/>
          <p:cNvSpPr txBox="1"/>
          <p:nvPr/>
        </p:nvSpPr>
        <p:spPr>
          <a:xfrm>
            <a:off x="1066680" y="2209680"/>
            <a:ext cx="70866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EARNING TO DO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horz"/>
    <p:sndAc>
      <p:stSnd>
        <p:snd r:embed="rId1" name="lase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2"/>
          <p:cNvGrpSpPr/>
          <p:nvPr/>
        </p:nvGrpSpPr>
        <p:grpSpPr>
          <a:xfrm>
            <a:off x="380880" y="990720"/>
            <a:ext cx="8610480" cy="4411440"/>
            <a:chOff x="380880" y="990720"/>
            <a:chExt cx="8610480" cy="4411440"/>
          </a:xfrm>
        </p:grpSpPr>
        <p:sp>
          <p:nvSpPr>
            <p:cNvPr id="178" name="AutoShape 14"/>
            <p:cNvSpPr/>
            <p:nvPr/>
          </p:nvSpPr>
          <p:spPr>
            <a:xfrm>
              <a:off x="3581280" y="2438280"/>
              <a:ext cx="1600200" cy="990720"/>
            </a:xfrm>
            <a:custGeom>
              <a:avLst/>
              <a:gdLst>
                <a:gd name="textAreaLeft" fmla="*/ 249120 w 1600200"/>
                <a:gd name="textAreaRight" fmla="*/ 1400400 w 1600200"/>
                <a:gd name="textAreaTop" fmla="*/ 247680 h 990720"/>
                <a:gd name="textAreaBottom" fmla="*/ 74304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ebf25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79" name="Group 17"/>
            <p:cNvGrpSpPr/>
            <p:nvPr/>
          </p:nvGrpSpPr>
          <p:grpSpPr>
            <a:xfrm>
              <a:off x="380880" y="990720"/>
              <a:ext cx="3048120" cy="4411440"/>
              <a:chOff x="380880" y="990720"/>
              <a:chExt cx="3048120" cy="4411440"/>
            </a:xfrm>
          </p:grpSpPr>
          <p:sp>
            <p:nvSpPr>
              <p:cNvPr id="180" name="Text Box 5"/>
              <p:cNvSpPr/>
              <p:nvPr/>
            </p:nvSpPr>
            <p:spPr>
              <a:xfrm>
                <a:off x="380880" y="990720"/>
                <a:ext cx="3048120" cy="44114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Arial"/>
                  </a:rPr>
                  <a:t>Traditional </a:t>
                </a: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Arial"/>
                  </a:rPr>
                  <a:t>Perspective</a:t>
                </a: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1" name="Oval 15"/>
              <p:cNvSpPr/>
              <p:nvPr/>
            </p:nvSpPr>
            <p:spPr>
              <a:xfrm>
                <a:off x="838080" y="2590920"/>
                <a:ext cx="2286000" cy="22096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2" name="Text Box 16"/>
              <p:cNvSpPr/>
              <p:nvPr/>
            </p:nvSpPr>
            <p:spPr>
              <a:xfrm>
                <a:off x="1066680" y="3124080"/>
                <a:ext cx="1828800" cy="13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ahoma"/>
                  </a:rPr>
                  <a:t>Certified </a:t>
                </a: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ahoma"/>
                  </a:rPr>
                  <a:t>Skills</a:t>
                </a: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83" name="Group 18"/>
            <p:cNvGrpSpPr/>
            <p:nvPr/>
          </p:nvGrpSpPr>
          <p:grpSpPr>
            <a:xfrm>
              <a:off x="5181480" y="990720"/>
              <a:ext cx="3809880" cy="4411440"/>
              <a:chOff x="5181480" y="990720"/>
              <a:chExt cx="3809880" cy="4411440"/>
            </a:xfrm>
          </p:grpSpPr>
          <p:sp>
            <p:nvSpPr>
              <p:cNvPr id="184" name="Text Box 19"/>
              <p:cNvSpPr/>
              <p:nvPr/>
            </p:nvSpPr>
            <p:spPr>
              <a:xfrm>
                <a:off x="5181480" y="990720"/>
                <a:ext cx="3809880" cy="44114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Arial"/>
                  </a:rPr>
                  <a:t>UNESCO’s</a:t>
                </a: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Arial"/>
                  </a:rPr>
                  <a:t>Perspective</a:t>
                </a: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5" name="Oval 20"/>
              <p:cNvSpPr/>
              <p:nvPr/>
            </p:nvSpPr>
            <p:spPr>
              <a:xfrm>
                <a:off x="5752800" y="2590920"/>
                <a:ext cx="2857320" cy="22096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6" name="Text Box 21"/>
              <p:cNvSpPr/>
              <p:nvPr/>
            </p:nvSpPr>
            <p:spPr>
              <a:xfrm>
                <a:off x="6038640" y="3124080"/>
                <a:ext cx="228600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Personal  Competence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380880" y="533520"/>
            <a:ext cx="807732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ersonal Competen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ix of skills and talents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mbining certified skills acquired through technical and vocational training, social behavior, personal initiative and willingness to take risk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380880" y="533520"/>
            <a:ext cx="807732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side the Classroo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use of Multiple Intelligence and learning Styles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Key ingredients: creative and innovative activiti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6"/>
          <p:cNvSpPr txBox="1"/>
          <p:nvPr/>
        </p:nvSpPr>
        <p:spPr>
          <a:xfrm>
            <a:off x="685800" y="1752480"/>
            <a:ext cx="800100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EARNING TO LIVE TOGETHE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horz"/>
    <p:sndAc>
      <p:stSnd>
        <p:snd r:embed="rId1" name="lase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457200" y="1143000"/>
            <a:ext cx="81104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 learn to live together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ach students about human divers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380880" y="914400"/>
            <a:ext cx="8763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 learn to live together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still in them an awareness of the similarities and interdependence of all peopl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4"/>
          <p:cNvSpPr/>
          <p:nvPr/>
        </p:nvSpPr>
        <p:spPr>
          <a:xfrm>
            <a:off x="380880" y="914400"/>
            <a:ext cx="8763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 learn to live together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hildren should be taught to understand other people's reactions by looking at things from their point of view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8"/>
          <p:cNvSpPr txBox="1"/>
          <p:nvPr/>
        </p:nvSpPr>
        <p:spPr>
          <a:xfrm>
            <a:off x="762120" y="380880"/>
            <a:ext cx="7772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FOUR PILLARS OF LEARNIN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1676520" y="4800600"/>
            <a:ext cx="62481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b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Dr. Rizalina G. Gomez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4038840" cy="311652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457200" y="1143000"/>
            <a:ext cx="8110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pirit of empathy is encouraged in schools, it has a positive effect on young persons' social behaviour for the rest of their liv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6"/>
          <p:cNvSpPr/>
          <p:nvPr/>
        </p:nvSpPr>
        <p:spPr>
          <a:xfrm>
            <a:off x="457200" y="1143000"/>
            <a:ext cx="8110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chool should promote social awareness, acceptance and respect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4"/>
          <p:cNvSpPr txBox="1"/>
          <p:nvPr/>
        </p:nvSpPr>
        <p:spPr>
          <a:xfrm>
            <a:off x="990720" y="2209680"/>
            <a:ext cx="7315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EARNING TO B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horz"/>
    <p:sndAc>
      <p:stSnd>
        <p:snd r:embed="rId1" name="laser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3"/>
          <p:cNvSpPr/>
          <p:nvPr/>
        </p:nvSpPr>
        <p:spPr>
          <a:xfrm>
            <a:off x="457200" y="533520"/>
            <a:ext cx="29718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nd and bo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21"/>
          <p:cNvSpPr/>
          <p:nvPr/>
        </p:nvSpPr>
        <p:spPr>
          <a:xfrm>
            <a:off x="457200" y="1371600"/>
            <a:ext cx="29718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llig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22"/>
          <p:cNvSpPr/>
          <p:nvPr/>
        </p:nvSpPr>
        <p:spPr>
          <a:xfrm>
            <a:off x="457200" y="2209680"/>
            <a:ext cx="29718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457200" y="3048120"/>
            <a:ext cx="29718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 Box 24"/>
          <p:cNvSpPr/>
          <p:nvPr/>
        </p:nvSpPr>
        <p:spPr>
          <a:xfrm>
            <a:off x="457200" y="4038480"/>
            <a:ext cx="29718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vidu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Text Box 25"/>
          <p:cNvSpPr/>
          <p:nvPr/>
        </p:nvSpPr>
        <p:spPr>
          <a:xfrm>
            <a:off x="380880" y="4952880"/>
            <a:ext cx="29718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agin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26"/>
          <p:cNvSpPr/>
          <p:nvPr/>
        </p:nvSpPr>
        <p:spPr>
          <a:xfrm>
            <a:off x="1371600" y="5867280"/>
            <a:ext cx="57150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ights and Responsibil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 Box 27"/>
          <p:cNvSpPr/>
          <p:nvPr/>
        </p:nvSpPr>
        <p:spPr>
          <a:xfrm>
            <a:off x="5867280" y="609480"/>
            <a:ext cx="29718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iritu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28"/>
          <p:cNvSpPr/>
          <p:nvPr/>
        </p:nvSpPr>
        <p:spPr>
          <a:xfrm>
            <a:off x="5867280" y="1600200"/>
            <a:ext cx="29718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epend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29"/>
          <p:cNvSpPr/>
          <p:nvPr/>
        </p:nvSpPr>
        <p:spPr>
          <a:xfrm>
            <a:off x="5867280" y="2514600"/>
            <a:ext cx="29718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udg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30"/>
          <p:cNvSpPr/>
          <p:nvPr/>
        </p:nvSpPr>
        <p:spPr>
          <a:xfrm>
            <a:off x="5867280" y="3505320"/>
            <a:ext cx="29718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itical Think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31"/>
          <p:cNvSpPr/>
          <p:nvPr/>
        </p:nvSpPr>
        <p:spPr>
          <a:xfrm>
            <a:off x="5867280" y="4343400"/>
            <a:ext cx="29718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32"/>
          <p:cNvSpPr/>
          <p:nvPr/>
        </p:nvSpPr>
        <p:spPr>
          <a:xfrm>
            <a:off x="5867280" y="5029200"/>
            <a:ext cx="29718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man Freed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6"/>
          <p:cNvSpPr/>
          <p:nvPr/>
        </p:nvSpPr>
        <p:spPr>
          <a:xfrm>
            <a:off x="1143000" y="129528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380880" y="1219320"/>
            <a:ext cx="8229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ommission powerfully re-asserted a fundamental principle: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ducation should contribute to every person's complete development - mind and body, intelligence, sensitivity, aesthetic appreciation and spiritualit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304920" y="363600"/>
            <a:ext cx="8305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people should receive in their childhood and youth an education that equips them to develop their own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dependent, critical way of thinking and judgment so that they can make up their own minds on the best courses of action in the different circumstances in their liv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"/>
          <p:cNvSpPr/>
          <p:nvPr/>
        </p:nvSpPr>
        <p:spPr>
          <a:xfrm>
            <a:off x="685800" y="152388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asic assumptions stated in the repor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earning to B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im of development i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the complete fulfillment of man, in all the richness of his personality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"/>
          <p:cNvSpPr/>
          <p:nvPr/>
        </p:nvSpPr>
        <p:spPr>
          <a:xfrm>
            <a:off x="762120" y="1447920"/>
            <a:ext cx="7848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mission embraces one of the complexity of his forms of expression and his various commitments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s individual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ember of a family and of a community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itiz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ducer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ventor of techniques 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reative dream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"/>
          <p:cNvSpPr/>
          <p:nvPr/>
        </p:nvSpPr>
        <p:spPr>
          <a:xfrm>
            <a:off x="457200" y="1295280"/>
            <a:ext cx="784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Narrow"/>
              </a:rPr>
              <a:t>This human development, which begins at birth and continues all through a person's life, is a dialectic process which is based both on self-knowledge and on relationships with other people.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19" descr="Copy (2) of 53"/>
          <p:cNvPicPr/>
          <p:nvPr/>
        </p:nvPicPr>
        <p:blipFill>
          <a:blip r:embed="rId1"/>
          <a:stretch/>
        </p:blipFill>
        <p:spPr>
          <a:xfrm>
            <a:off x="6469200" y="1371600"/>
            <a:ext cx="2674800" cy="3124080"/>
          </a:xfrm>
          <a:prstGeom prst="rect">
            <a:avLst/>
          </a:prstGeom>
          <a:ln w="0">
            <a:noFill/>
          </a:ln>
        </p:spPr>
      </p:pic>
      <p:pic>
        <p:nvPicPr>
          <p:cNvPr id="216" name="Rectangle 4" descr=""/>
          <p:cNvPicPr/>
          <p:nvPr/>
        </p:nvPicPr>
        <p:blipFill>
          <a:blip r:embed="rId2"/>
          <a:stretch/>
        </p:blipFill>
        <p:spPr>
          <a:xfrm>
            <a:off x="878040" y="1487520"/>
            <a:ext cx="6723000" cy="2577960"/>
          </a:xfrm>
          <a:prstGeom prst="rect">
            <a:avLst/>
          </a:prstGeom>
          <a:ln w="0">
            <a:noFill/>
          </a:ln>
        </p:spPr>
      </p:pic>
    </p:spTree>
  </p:cSld>
  <p:transition>
    <p:wheel spokes="2"/>
    <p:sndAc>
      <p:stSnd>
        <p:snd r:embed="rId3" name="explod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38"/>
          <p:cNvGrpSpPr/>
          <p:nvPr/>
        </p:nvGrpSpPr>
        <p:grpSpPr>
          <a:xfrm>
            <a:off x="609480" y="1143000"/>
            <a:ext cx="8305920" cy="3278880"/>
            <a:chOff x="609480" y="1143000"/>
            <a:chExt cx="8305920" cy="3278880"/>
          </a:xfrm>
        </p:grpSpPr>
        <p:sp>
          <p:nvSpPr>
            <p:cNvPr id="131" name="Text Box 7"/>
            <p:cNvSpPr/>
            <p:nvPr/>
          </p:nvSpPr>
          <p:spPr>
            <a:xfrm>
              <a:off x="1447920" y="2971800"/>
              <a:ext cx="4800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Text Box 24"/>
            <p:cNvSpPr/>
            <p:nvPr/>
          </p:nvSpPr>
          <p:spPr>
            <a:xfrm>
              <a:off x="609480" y="1143000"/>
              <a:ext cx="8229600" cy="581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The UNESCO’s Four (4) Pillars of Learning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Text Box 28"/>
            <p:cNvSpPr/>
            <p:nvPr/>
          </p:nvSpPr>
          <p:spPr>
            <a:xfrm>
              <a:off x="7238880" y="3048120"/>
              <a:ext cx="1676520" cy="13737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602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Learning to live together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Text Box 29"/>
            <p:cNvSpPr/>
            <p:nvPr/>
          </p:nvSpPr>
          <p:spPr>
            <a:xfrm>
              <a:off x="5029200" y="3048120"/>
              <a:ext cx="1676520" cy="947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602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Learning to be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Text Box 30"/>
            <p:cNvSpPr/>
            <p:nvPr/>
          </p:nvSpPr>
          <p:spPr>
            <a:xfrm>
              <a:off x="2895480" y="3048120"/>
              <a:ext cx="1676520" cy="947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602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Learning to do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Text Box 31"/>
            <p:cNvSpPr/>
            <p:nvPr/>
          </p:nvSpPr>
          <p:spPr>
            <a:xfrm>
              <a:off x="609480" y="3048120"/>
              <a:ext cx="1676520" cy="947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602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Learning to Know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Line 32"/>
            <p:cNvSpPr/>
            <p:nvPr/>
          </p:nvSpPr>
          <p:spPr>
            <a:xfrm>
              <a:off x="1295280" y="2514600"/>
              <a:ext cx="6782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Line 33"/>
            <p:cNvSpPr/>
            <p:nvPr/>
          </p:nvSpPr>
          <p:spPr>
            <a:xfrm>
              <a:off x="1295280" y="2514600"/>
              <a:ext cx="0" cy="53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Line 34"/>
            <p:cNvSpPr/>
            <p:nvPr/>
          </p:nvSpPr>
          <p:spPr>
            <a:xfrm>
              <a:off x="8064360" y="2502000"/>
              <a:ext cx="0" cy="533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Line 35"/>
            <p:cNvSpPr/>
            <p:nvPr/>
          </p:nvSpPr>
          <p:spPr>
            <a:xfrm>
              <a:off x="5854680" y="2502000"/>
              <a:ext cx="0" cy="533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Line 36"/>
            <p:cNvSpPr/>
            <p:nvPr/>
          </p:nvSpPr>
          <p:spPr>
            <a:xfrm>
              <a:off x="3720960" y="2514600"/>
              <a:ext cx="0" cy="53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Line 37"/>
            <p:cNvSpPr/>
            <p:nvPr/>
          </p:nvSpPr>
          <p:spPr>
            <a:xfrm>
              <a:off x="4724280" y="1752480"/>
              <a:ext cx="0" cy="762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checker dir="horz"/>
    <p:sndAc>
      <p:stSnd>
        <p:snd r:embed="rId1" name="lase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5"/>
          <p:cNvSpPr txBox="1"/>
          <p:nvPr/>
        </p:nvSpPr>
        <p:spPr>
          <a:xfrm>
            <a:off x="228600" y="457200"/>
            <a:ext cx="655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EARNING TO KNO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762120" y="1828800"/>
            <a:ext cx="685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533520" y="1676520"/>
            <a:ext cx="8381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s more on the mastery of 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learning tools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than with the acquisition of structured knowledge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5"/>
          <p:cNvGrpSpPr/>
          <p:nvPr/>
        </p:nvGrpSpPr>
        <p:grpSpPr>
          <a:xfrm>
            <a:off x="533520" y="457200"/>
            <a:ext cx="7848360" cy="4255200"/>
            <a:chOff x="533520" y="457200"/>
            <a:chExt cx="7848360" cy="4255200"/>
          </a:xfrm>
        </p:grpSpPr>
        <p:sp>
          <p:nvSpPr>
            <p:cNvPr id="147" name="Text Box 4"/>
            <p:cNvSpPr/>
            <p:nvPr/>
          </p:nvSpPr>
          <p:spPr>
            <a:xfrm>
              <a:off x="533520" y="1676520"/>
              <a:ext cx="3047760" cy="1556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Arial"/>
                </a:rPr>
                <a:t>Learning Tools</a:t>
              </a: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Text Box 5"/>
            <p:cNvSpPr/>
            <p:nvPr/>
          </p:nvSpPr>
          <p:spPr>
            <a:xfrm>
              <a:off x="5257800" y="457200"/>
              <a:ext cx="3048120" cy="76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Numeracy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Text Box 6"/>
            <p:cNvSpPr/>
            <p:nvPr/>
          </p:nvSpPr>
          <p:spPr>
            <a:xfrm>
              <a:off x="5334120" y="2057400"/>
              <a:ext cx="3047760" cy="76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Literacy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Text Box 7"/>
            <p:cNvSpPr/>
            <p:nvPr/>
          </p:nvSpPr>
          <p:spPr>
            <a:xfrm>
              <a:off x="5300640" y="3948120"/>
              <a:ext cx="3048120" cy="76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Life skills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Line 10"/>
            <p:cNvSpPr/>
            <p:nvPr/>
          </p:nvSpPr>
          <p:spPr>
            <a:xfrm>
              <a:off x="4848120" y="838080"/>
              <a:ext cx="457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Line 11"/>
            <p:cNvSpPr/>
            <p:nvPr/>
          </p:nvSpPr>
          <p:spPr>
            <a:xfrm>
              <a:off x="4819680" y="4371840"/>
              <a:ext cx="457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Line 12"/>
            <p:cNvSpPr/>
            <p:nvPr/>
          </p:nvSpPr>
          <p:spPr>
            <a:xfrm>
              <a:off x="4876920" y="2514600"/>
              <a:ext cx="457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Line 13"/>
            <p:cNvSpPr/>
            <p:nvPr/>
          </p:nvSpPr>
          <p:spPr>
            <a:xfrm>
              <a:off x="4829040" y="809640"/>
              <a:ext cx="0" cy="3581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Line 14"/>
            <p:cNvSpPr/>
            <p:nvPr/>
          </p:nvSpPr>
          <p:spPr>
            <a:xfrm>
              <a:off x="3571920" y="2514600"/>
              <a:ext cx="1219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228600" y="228600"/>
            <a:ext cx="8381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Mastery of these learning tools is both a </a:t>
            </a:r>
            <a:r>
              <a:rPr b="1" lang="en-US" sz="4800" spc="-1" strike="noStrike">
                <a:solidFill>
                  <a:srgbClr val="ebf25a"/>
                </a:solidFill>
                <a:latin typeface="Arial"/>
              </a:rPr>
              <a:t>means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and an </a:t>
            </a:r>
            <a:r>
              <a:rPr b="1" lang="en-US" sz="4800" spc="-1" strike="noStrike">
                <a:solidFill>
                  <a:srgbClr val="ebf25a"/>
                </a:solidFill>
                <a:latin typeface="Arial"/>
              </a:rPr>
              <a:t>end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380880" y="2895480"/>
            <a:ext cx="8382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se are means for the students to understand the world around them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380880" y="685800"/>
            <a:ext cx="7543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se are </a:t>
            </a:r>
            <a:r>
              <a:rPr b="1" lang="en-US" sz="4800" spc="-1" strike="noStrike">
                <a:solidFill>
                  <a:srgbClr val="ebf25a"/>
                </a:solidFill>
                <a:latin typeface="Arial"/>
              </a:rPr>
              <a:t>ends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for the students that can be derived from the pleasures on understanding, knowledge and discovery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380880" y="380880"/>
            <a:ext cx="8458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lors Commission  learning to know implies learning how to lear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0" name="Group 18"/>
          <p:cNvGrpSpPr/>
          <p:nvPr/>
        </p:nvGrpSpPr>
        <p:grpSpPr>
          <a:xfrm>
            <a:off x="380880" y="2590920"/>
            <a:ext cx="8305920" cy="2436480"/>
            <a:chOff x="380880" y="2590920"/>
            <a:chExt cx="8305920" cy="2436480"/>
          </a:xfrm>
        </p:grpSpPr>
        <p:sp>
          <p:nvSpPr>
            <p:cNvPr id="161" name="Text Box 7"/>
            <p:cNvSpPr/>
            <p:nvPr/>
          </p:nvSpPr>
          <p:spPr>
            <a:xfrm>
              <a:off x="457200" y="2590920"/>
              <a:ext cx="8229600" cy="581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Components of Learning to  Learn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Text Box 8"/>
            <p:cNvSpPr/>
            <p:nvPr/>
          </p:nvSpPr>
          <p:spPr>
            <a:xfrm>
              <a:off x="6400800" y="4495680"/>
              <a:ext cx="2057400" cy="520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602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Thinking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Text Box 9"/>
            <p:cNvSpPr/>
            <p:nvPr/>
          </p:nvSpPr>
          <p:spPr>
            <a:xfrm>
              <a:off x="3233880" y="4506840"/>
              <a:ext cx="2666880" cy="520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602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Memory Skill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Text Box 10"/>
            <p:cNvSpPr/>
            <p:nvPr/>
          </p:nvSpPr>
          <p:spPr>
            <a:xfrm>
              <a:off x="380880" y="4495680"/>
              <a:ext cx="2590920" cy="520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602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Concentration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Line 12"/>
            <p:cNvSpPr/>
            <p:nvPr/>
          </p:nvSpPr>
          <p:spPr>
            <a:xfrm>
              <a:off x="1600200" y="3962520"/>
              <a:ext cx="6324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Line 14"/>
            <p:cNvSpPr/>
            <p:nvPr/>
          </p:nvSpPr>
          <p:spPr>
            <a:xfrm>
              <a:off x="7912080" y="3949560"/>
              <a:ext cx="0" cy="53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Line 15"/>
            <p:cNvSpPr/>
            <p:nvPr/>
          </p:nvSpPr>
          <p:spPr>
            <a:xfrm>
              <a:off x="4572000" y="3962520"/>
              <a:ext cx="0" cy="533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Line 16"/>
            <p:cNvSpPr/>
            <p:nvPr/>
          </p:nvSpPr>
          <p:spPr>
            <a:xfrm>
              <a:off x="1600200" y="3962520"/>
              <a:ext cx="0" cy="533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Line 17"/>
            <p:cNvSpPr/>
            <p:nvPr/>
          </p:nvSpPr>
          <p:spPr>
            <a:xfrm>
              <a:off x="4572000" y="3200400"/>
              <a:ext cx="0" cy="762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609480" y="304920"/>
            <a:ext cx="487692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centr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process of improving concentration skills can take different forms and can be aided with various learning skills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791320" y="304920"/>
            <a:ext cx="26859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16:12:50Z</dcterms:created>
  <dc:creator>jhovil</dc:creator>
  <dc:description/>
  <dc:language>en-US</dc:language>
  <cp:lastModifiedBy>msu-iit</cp:lastModifiedBy>
  <dcterms:modified xsi:type="dcterms:W3CDTF">2011-12-08T02:45:53Z</dcterms:modified>
  <cp:revision>24</cp:revision>
  <dc:subject/>
  <dc:title>THE FOUR PILLARS OF LEARNING</dc:title>
</cp:coreProperties>
</file>